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F98-59EA-4B1F-BA22-CA53E629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0DC-F2A7-4974-857F-65C34A6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2BC-8FDD-4B61-B584-645FA164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642-BE1C-45D2-961F-C87F067E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8DF-D0B4-4040-B373-F08D1AA5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1510-721B-44F1-8E37-DE8255CF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2D0-039B-4512-96CD-8CE2149C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E21-4E40-4EE5-972D-B9FD626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78E3-B74E-4E20-BE6E-E096E49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A6D-3BAD-461D-903C-F6DE0B8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E45A-CDA4-4CCA-9A8C-48335DA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FAC-D5D2-4A7D-B5A3-58CB3487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6006-30EB-4C78-8D79-C7905BC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F2CE-DAEE-4298-BD15-772F4F1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0F1-9D17-45B2-B06E-4F2F2F4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DD5F-9539-4101-92E0-CEFC905E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8AF-CB99-4B5A-90CA-EE46A9C7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218-5536-4B25-918D-33A6480A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53D-6C1D-4DC6-A563-998EDA55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081-E97C-42F5-8662-9B1D454A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6F6-380A-44AF-8E9A-ACB507E9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2E9-9F26-4B64-8048-F4A8DE2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730-1292-4386-9B1A-6C8C4AA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227-18FE-4DF5-94FD-DE1ED2B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1EBE-24D0-4A63-9419-BA6CCF80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533-985E-4E3F-9598-0FA53A57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ockfamily.net/skeleton/HINGE.MOV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shockfamily.net/skeleton/BALLSOCK.MOV" TargetMode="External"/><Relationship Id="rId5" Type="http://schemas.openxmlformats.org/officeDocument/2006/relationships/hyperlink" Target="http://www.shockfamily.net/skeleton/BALLSOCK.MOV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ockfamily.net/skeleton/HINGE.MO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Skeletal System Continued…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eloping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’s bones are mainly made of cartilage and as we grow up this is replaced by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iosteum lays down new bone cells while at the same time cells inside the bone vestry older bone cells meaning the bone becomes longer and w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Synovial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HING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1676520" cy="1517400"/>
          </a:xfrm>
          <a:prstGeom prst="rect">
            <a:avLst/>
          </a:prstGeom>
          <a:ln w="0">
            <a:noFill/>
          </a:ln>
        </p:spPr>
      </p:pic>
      <p:pic>
        <p:nvPicPr>
          <p:cNvPr id="150" name="SADDLE" descr=""/>
          <p:cNvPicPr/>
          <p:nvPr/>
        </p:nvPicPr>
        <p:blipFill>
          <a:blip r:embed="rId3"/>
          <a:stretch/>
        </p:blipFill>
        <p:spPr>
          <a:xfrm>
            <a:off x="3581280" y="1752480"/>
            <a:ext cx="198144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990720" y="7238880"/>
            <a:ext cx="9153360" cy="3500280"/>
            <a:chOff x="990720" y="7238880"/>
            <a:chExt cx="9153360" cy="3500280"/>
          </a:xfrm>
        </p:grpSpPr>
        <p:grpSp>
          <p:nvGrpSpPr>
            <p:cNvPr id="152" name=""/>
            <p:cNvGrpSpPr/>
            <p:nvPr/>
          </p:nvGrpSpPr>
          <p:grpSpPr>
            <a:xfrm>
              <a:off x="995400" y="7243560"/>
              <a:ext cx="9144000" cy="3490920"/>
              <a:chOff x="995400" y="7243560"/>
              <a:chExt cx="9144000" cy="3490920"/>
            </a:xfrm>
          </p:grpSpPr>
          <p:sp>
            <p:nvSpPr>
              <p:cNvPr id="153" name=""/>
              <p:cNvSpPr/>
              <p:nvPr/>
            </p:nvSpPr>
            <p:spPr>
              <a:xfrm>
                <a:off x="995400" y="7243560"/>
                <a:ext cx="9144000" cy="34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 u="sng">
                    <a:solidFill>
                      <a:srgbClr val="99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n-AU" sz="22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95400" y="7243560"/>
                <a:ext cx="9144000" cy="349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990720" y="7238880"/>
              <a:ext cx="9153360" cy="3500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BALLSOCK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76520"/>
            <a:ext cx="1801800" cy="1509480"/>
          </a:xfrm>
          <a:prstGeom prst="rect">
            <a:avLst/>
          </a:prstGeom>
          <a:ln w="0">
            <a:noFill/>
          </a:ln>
        </p:spPr>
      </p:pic>
      <p:pic>
        <p:nvPicPr>
          <p:cNvPr id="157" name="GLIDING" descr=""/>
          <p:cNvPicPr/>
          <p:nvPr/>
        </p:nvPicPr>
        <p:blipFill>
          <a:blip r:embed="rId7"/>
          <a:stretch/>
        </p:blipFill>
        <p:spPr>
          <a:xfrm>
            <a:off x="914400" y="41911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158" name="Image601" descr=""/>
          <p:cNvPicPr/>
          <p:nvPr/>
        </p:nvPicPr>
        <p:blipFill>
          <a:blip r:embed="rId8"/>
          <a:srcRect l="32144" t="14319" r="0" b="14319"/>
          <a:stretch/>
        </p:blipFill>
        <p:spPr>
          <a:xfrm>
            <a:off x="3733920" y="3733920"/>
            <a:ext cx="1790640" cy="2111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66680" y="3276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ge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3276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ddle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l in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iding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5562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vot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image010" descr=""/>
          <p:cNvPicPr/>
          <p:nvPr/>
        </p:nvPicPr>
        <p:blipFill>
          <a:blip r:embed="rId9"/>
          <a:srcRect l="0" t="0" r="0" b="21848"/>
          <a:stretch/>
        </p:blipFill>
        <p:spPr>
          <a:xfrm>
            <a:off x="6095880" y="4114800"/>
            <a:ext cx="2286000" cy="1287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24480" y="548640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oi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llips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26828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e 5 joints within your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table indicating which sort of joint it is, the bones in it, and draw a picture represent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73240" y="4114800"/>
          <a:ext cx="7772400" cy="20192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b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lna and Humer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 - Hi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797360"/>
            <a:ext cx="13892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Movemen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can move in many different ways, each bones ability to move depends on the muscle attached and the type of j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vement has an opposit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Movements (p270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traigh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dy part mo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line of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dy part mo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idline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dy part moves around its 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– move out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– Move i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More Movement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m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ody part moved in a con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al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n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al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otation of the sole out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otation of the sole in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ir has been given an exercise or sporting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erson imitates the movement while the second person observes, and lists the movements occur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Bicep Curl: flexion of the el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table in your book and add the other pairs movement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ement – Muscles and Bone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movement to occur there must be a muscle between two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where the muscle attaches to the moving bon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where the muscle attaches to the non-moving bone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ement – Muscles and Bone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 work as a te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cle causing the action is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cle that does the opposite to the agonist to allow the agonist to work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. Bicep C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 – 4 on p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rcise and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k Bone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of minerals (phosphorus and calcium) and compact bone stored to give the bone maximum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s during childhood such as high intensity and weight bearing help in achieving th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happens when we don’t achiev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the Skeleton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and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s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 1 (5mi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text books divide your skeleton into the 6 different parts (259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bones in each part and the function of that specific part of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points Qu 1-4  p 2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Joints and Movement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p 268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s are where two or more bones meet. They are held together by ligaments (thick cords stringy tissue) and determine how moveable the bon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brous (immov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gh fibres join these bone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tilaginous (partially mov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ilage joins these bone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ilage is not as flexible as ligaments therefore movement is restri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novial (freely mov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freely and are the most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ed by synovial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types of synovial j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brous Joint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Cartilaginous Joi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fibrous-joint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391200" cy="2771640"/>
          </a:xfrm>
          <a:prstGeom prst="rect">
            <a:avLst/>
          </a:prstGeom>
          <a:ln w="0">
            <a:noFill/>
          </a:ln>
        </p:spPr>
      </p:pic>
      <p:pic>
        <p:nvPicPr>
          <p:cNvPr id="144" name="cartilaginous-joint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228760" cy="1942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002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53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Typical Synovial Joi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joints" descr=""/>
          <p:cNvPicPr/>
          <p:nvPr/>
        </p:nvPicPr>
        <p:blipFill>
          <a:blip r:embed="rId1"/>
          <a:stretch/>
        </p:blipFill>
        <p:spPr>
          <a:xfrm>
            <a:off x="2874960" y="1981080"/>
            <a:ext cx="436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5:07:13Z</dcterms:created>
  <dc:creator>Systems Administrator</dc:creator>
  <dc:description/>
  <dc:language>en-US</dc:language>
  <cp:lastModifiedBy>WBottrall</cp:lastModifiedBy>
  <dcterms:modified xsi:type="dcterms:W3CDTF">2006-06-14T22:31:25Z</dcterms:modified>
  <cp:revision>14</cp:revision>
  <dc:subject/>
  <dc:title>Joints and Movement</dc:title>
</cp:coreProperties>
</file>